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27E-8DAE-4B1D-84ED-35B8865D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F6C-4A5C-4D1A-AA22-ADC9ECC5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B1634-A0E1-4DBA-BFE3-6A5952F2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A38A6-918D-42BF-8870-A8EC7CD0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4AF08-2A48-4396-A856-D724E177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10950-A88E-4F6D-881F-536645B0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23BFB-600D-474E-BE58-A376692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98704-1B0D-45E5-84AB-6E56972F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231B9-E8D2-4FE8-8FCB-F4E8DC01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E9D03-CD94-491E-BB80-C68C6DD5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6E2D9-72E3-4E79-8E0B-0E0A2A94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98ED5-9D68-4769-9AC4-3767428B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87B-AB38-4C92-A6FF-0270B855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9F5A8-7ABF-4F61-A22F-4AFB2BE3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EB745-A81F-4226-B829-A903DD09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6E2D6-A147-4B13-8906-9122E841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E1E3E-F0EE-4215-A4F6-4BBF1318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2D583-0EED-4E6B-B3DC-F70DCCEE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22810-BE44-44B3-B656-2DEA1447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D2B75-9173-41B3-AB13-18DAC76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5C3C6-379D-489E-B681-7A0DC719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C26F6-E251-4DFD-B1CD-D67C6716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45FFC-8FF1-4433-97E4-FCEE25DE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F65-3DD0-40B4-9D4B-6BD74910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EADA3-DF1E-4F15-B03C-619BF3EF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EE6FA-B724-4E0A-9098-C4286D86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27283-4C3A-44A2-BBA0-2690B7CC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8623F-9E0C-42C0-B17C-DDADB26A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C59D4-9BFC-4E5C-9B1A-ABC87332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9591C-908D-41F8-BDFA-331BCF03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53C5F-7F2C-47BF-A559-B441DF8D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4C98E-A82D-4A40-8456-C3462685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F630E-34CF-40A6-A236-6F8F303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7918C-EB34-4C63-8832-B7276481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9A92-EADE-4DAC-9532-0077B190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9DCA3-C2C8-4D9E-9653-6ABE4E50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AA353-8727-443B-B2C4-96AFDDA9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8F263-A24F-4A04-A91F-165CB1AE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D6316-9AA5-4651-AFEE-57F37C57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C4607-FA92-4A8A-B525-D943C3E0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F61D7-F8EF-41E9-9065-1065570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0F58C-F187-47AB-9918-55A47DE4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11DC3-3295-4424-B90F-F7B3851F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ECFBD-8FEB-4B68-ADE9-AC166C3C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2492B-B337-43FE-9FE9-CE93EF8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AABE-A610-401B-B566-3D3183C8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78402-9999-4C6C-8ED6-7D397431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8FFCF-F69C-4E86-8E14-9807A81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7CEFE-4C1C-417F-8F96-00D2A1B2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58140-4418-4039-80C6-ACBDEA3B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4D40D-A35C-4EEA-B5B1-1356EE27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260E-A89A-4CA8-9869-499C3281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A429-D339-4ED5-9CA3-9F3340EF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21D5-F8BF-402E-87F2-D873DEB4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9C95-5E42-46D0-8E06-5D5AFCA2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A1CA-25DA-4227-9AD7-AB05D793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378-EA67-4451-A2DC-BC161069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4CFB-88DC-4652-9213-39FE6494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7D7E-72D7-4E2E-AC31-D4E738AF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3087-768C-4814-B1E2-008558B7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38BC-DCBC-467B-9534-DB7B9A75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D091-BDD8-432F-B7B9-11D7D48A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519D-B1C0-4D0F-A931-DA31CBC6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05AC-216D-462A-947C-6A7AC80D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E6D7-E830-41F6-9A0F-F091F04F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A6D3-782D-4998-906D-C2B65B08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DB33-EF21-42CB-A64B-B6BB4CC5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D63-B8ED-43ED-907F-317ED77E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C684-CA37-41A7-8D93-438CBC6A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78124-DD2F-418F-A9F4-AADBBE9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22A1C-9D20-4D94-AEAC-AD8812A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38DB-5D0F-4E42-A92C-BB4975D5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DD5F-E4AC-45D0-B476-0ADCA722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99E3-160B-41E2-8B49-FCDCC846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C827-CD7A-465A-9590-8D337A22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A26BC-48CB-4132-BA56-8B5A89C8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07E4-189A-4A27-9B8D-4C71DDB6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964A-2077-4D2F-98DE-D4190E7C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AB4-27A2-42F7-BFC0-A880EFBB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BE58-5484-4BBC-9179-CD1C4060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5346-36D7-4EC2-8B61-5BD13E85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5122-02D0-4413-89B0-23448B07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6169-D920-431C-979C-1F23460A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6F8D-441D-4586-9D3B-7C8423AD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9E8C-202E-465D-B023-89202C0B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8E7F-0C50-4D9D-9B0B-E89A6F35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97E24-6316-433A-88C8-187D473F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8834B-216E-44E3-86C2-777D4A93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5669-75A5-49D5-A7F5-65CE1C2F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8C8-3B32-400F-ACA7-028C709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74366-5A4A-4794-8EBA-2E3F9401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64ECC-362B-4D69-ABD3-ADC05D2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AB908-FB44-4F95-BAB0-056411A1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F8D4-72D8-4449-A514-762174B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108E-20FB-4E8B-A2AA-EB1FC491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9D5BF-EBBA-4056-BD63-EC190651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54BD4-0963-4B67-9F9A-CB103A1A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DA987-80DB-4A2C-A2F1-3405FC2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F98B1-EDB8-476A-9D30-90B67373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7AD93-B747-45BF-93A7-DF965F6A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C22-4D5E-438B-B299-C28C5AB1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2263A-F6DB-4FE3-A7CA-C3FDB648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66819-51F1-4C5A-9FEA-372AE020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F27D0-9901-4C95-8BB0-A1A0EE1C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46412-A3F1-4EB2-B5A2-6B8022B5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591F6-C172-4C2D-AB06-5F378C8D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8CE46-45FE-4CF5-8BBA-B91B6BF7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94B0-2DD2-44A6-AF5E-CB0B945F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69E8-81FF-461B-8F71-36A64B2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7A08-21A6-484E-8C7C-8ADA2735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568AC-EB34-47E0-B169-0E8CBE4C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859-173F-4BE4-BD03-857CB929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7666E-4FCC-418D-837F-CE79B14A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0B051-E222-465B-A73B-FB09F5E3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01915-49AE-48A8-8C00-9F4A1C0F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21E36-6CB3-4B64-9510-F1EEC76F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6B76-93FB-4C0F-A2DE-C29ADA79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821A2-3979-4653-9CA6-E46F3E4A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57F5C-898E-4B39-8352-F184D0B6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32BC4-3CA6-47C1-AEEE-AD89D83F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E332D-1D03-4BDA-A879-3DADCCD3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4F878-C3B2-4254-BF81-5F45D6E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135-8763-415C-AE14-63292B67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8F366-4558-4C31-B5DE-36EA6B40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0079-CD61-4778-A80D-C2020C1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7086A-0C62-4C0E-B8DE-F10E0208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22740-8533-46B8-B724-D623A902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FD1C2-7BC9-4DD4-8CAD-440B41C2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9BF42-2DD2-40D4-B0A4-E2AA6A29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5AE83-ECFF-46F3-BE3A-DCC4B2FB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9E216-3AD5-4BE4-AE14-2D49BBF8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CD3AC-821B-475E-A56A-E6D2CD31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276B3-0553-43F8-9041-26D1B6AA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2E1-3536-405C-AA38-517F66E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92E79-E6A6-4F09-AD89-2643884F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D7E4E-38E0-422A-AFA5-3DFFAA8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2E445-312E-4188-9085-F0988889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28841-167B-4FAF-8112-E650FDFC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292C-AD13-4631-BDCF-ADE0769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84114-4E9A-4D58-A8A8-EF7293BB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54098-EBD6-4405-B041-8590AE8A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6A91C-D710-4D3F-AE3E-6ECD5DBA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90461-C9B6-43FD-A594-C3A3437A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B5772-8397-44BD-A18F-E614F421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697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9698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椭圆 29699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9700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9701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9702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9703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E228-ADE5-4C48-900A-EE2BC0303A7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F001-5E72-4E35-9EF3-C910636C12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AF04-0DA3-466F-B125-2ED12D85184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7EC8-7A37-4F4E-BB81-F67DEC61D0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0721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椭圆 30722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0723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0724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0725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0726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0727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01C2-1BE7-4942-9ACB-E10EC206CC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B03-8286-42D5-A49C-E09CBF690C8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6B18-7455-408C-9317-4C25D22DB24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1B7E-5225-4637-B191-E0A5538EF59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BDE0-CD96-4353-B9F5-46D81623C3F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0EBF-3B5A-4D12-990F-AB5A36164C2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818D-32E0-4FF8-AAE3-73A9A380FFE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B12-A808-4105-BB65-D42787A75FB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3452760" y="1220760"/>
            <a:ext cx="52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华康勘亭流W9(P)"/>
                <a:ea typeface="华康勘亭流W9(P)"/>
              </a:rPr>
              <a:t>语文园地四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文本框 3"/>
          <p:cNvSpPr/>
          <p:nvPr/>
        </p:nvSpPr>
        <p:spPr>
          <a:xfrm>
            <a:off x="8240760" y="450720"/>
            <a:ext cx="998640" cy="25628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多音字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左大括号 5"/>
          <p:cNvSpPr/>
          <p:nvPr/>
        </p:nvSpPr>
        <p:spPr>
          <a:xfrm>
            <a:off x="1887480" y="641520"/>
            <a:ext cx="273240" cy="1382400"/>
          </a:xfrm>
          <a:custGeom>
            <a:avLst/>
            <a:gdLst>
              <a:gd name="textAreaLeft" fmla="*/ 174600 w 273240"/>
              <a:gd name="textAreaRight" fmla="*/ 273600 w 273240"/>
              <a:gd name="textAreaTop" fmla="*/ 68760 h 1382400"/>
              <a:gd name="textAreaBottom" fmla="*/ 1313640 h 138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3"/>
                  <a:pt x="10800" y="3445"/>
                </a:cubicBezTo>
                <a:lnTo>
                  <a:pt x="10800" y="7355"/>
                </a:lnTo>
                <a:cubicBezTo>
                  <a:pt x="10800" y="9078"/>
                  <a:pt x="5400" y="10800"/>
                  <a:pt x="0" y="10800"/>
                </a:cubicBezTo>
                <a:cubicBezTo>
                  <a:pt x="5400" y="10800"/>
                  <a:pt x="10800" y="12523"/>
                  <a:pt x="10800" y="14245"/>
                </a:cubicBezTo>
                <a:lnTo>
                  <a:pt x="10800" y="18155"/>
                </a:lnTo>
                <a:cubicBezTo>
                  <a:pt x="10800" y="198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文本框 7"/>
          <p:cNvSpPr/>
          <p:nvPr/>
        </p:nvSpPr>
        <p:spPr>
          <a:xfrm>
            <a:off x="843120" y="304488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处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文本框 1"/>
          <p:cNvSpPr/>
          <p:nvPr/>
        </p:nvSpPr>
        <p:spPr>
          <a:xfrm>
            <a:off x="1935000" y="45072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ō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文本框 2"/>
          <p:cNvSpPr/>
          <p:nvPr/>
        </p:nvSpPr>
        <p:spPr>
          <a:xfrm>
            <a:off x="1935000" y="159552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ò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3" name="文本框 4"/>
          <p:cNvSpPr/>
          <p:nvPr/>
        </p:nvSpPr>
        <p:spPr>
          <a:xfrm>
            <a:off x="3360600" y="39060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3360600" y="153360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计 中奖 猜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左大括号 8"/>
          <p:cNvSpPr/>
          <p:nvPr/>
        </p:nvSpPr>
        <p:spPr>
          <a:xfrm>
            <a:off x="1887480" y="2814480"/>
            <a:ext cx="273240" cy="1382760"/>
          </a:xfrm>
          <a:custGeom>
            <a:avLst/>
            <a:gdLst>
              <a:gd name="textAreaLeft" fmla="*/ 174600 w 273240"/>
              <a:gd name="textAreaRight" fmla="*/ 273600 w 273240"/>
              <a:gd name="textAreaTop" fmla="*/ 68760 h 1382760"/>
              <a:gd name="textAreaBottom" fmla="*/ 131400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3"/>
                  <a:pt x="10800" y="3445"/>
                </a:cubicBezTo>
                <a:lnTo>
                  <a:pt x="10800" y="7355"/>
                </a:lnTo>
                <a:cubicBezTo>
                  <a:pt x="10800" y="9078"/>
                  <a:pt x="5400" y="10800"/>
                  <a:pt x="0" y="10800"/>
                </a:cubicBezTo>
                <a:cubicBezTo>
                  <a:pt x="5400" y="10800"/>
                  <a:pt x="10800" y="12523"/>
                  <a:pt x="10800" y="14245"/>
                </a:cubicBezTo>
                <a:lnTo>
                  <a:pt x="10800" y="18155"/>
                </a:lnTo>
                <a:cubicBezTo>
                  <a:pt x="10800" y="198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文本框 9"/>
          <p:cNvSpPr/>
          <p:nvPr/>
        </p:nvSpPr>
        <p:spPr>
          <a:xfrm>
            <a:off x="1935000" y="259380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ǔ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文本框 10"/>
          <p:cNvSpPr/>
          <p:nvPr/>
        </p:nvSpPr>
        <p:spPr>
          <a:xfrm>
            <a:off x="1935000" y="379260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文本框 11"/>
          <p:cNvSpPr/>
          <p:nvPr/>
        </p:nvSpPr>
        <p:spPr>
          <a:xfrm>
            <a:off x="3360600" y="253224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处罚 处分 处理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文本框 12"/>
          <p:cNvSpPr/>
          <p:nvPr/>
        </p:nvSpPr>
        <p:spPr>
          <a:xfrm>
            <a:off x="3360600" y="373068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到处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文本框 13"/>
          <p:cNvSpPr/>
          <p:nvPr/>
        </p:nvSpPr>
        <p:spPr>
          <a:xfrm>
            <a:off x="843120" y="87156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文本框 18"/>
          <p:cNvSpPr/>
          <p:nvPr/>
        </p:nvSpPr>
        <p:spPr>
          <a:xfrm>
            <a:off x="1986120" y="96840"/>
            <a:ext cx="7143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虚伪的；不真实的；伪造的；人造的（跟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真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相对）：～话  ～仁～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文本框 13"/>
          <p:cNvSpPr/>
          <p:nvPr/>
        </p:nvSpPr>
        <p:spPr>
          <a:xfrm>
            <a:off x="128520" y="96840"/>
            <a:ext cx="9050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文本框 3"/>
          <p:cNvSpPr/>
          <p:nvPr/>
        </p:nvSpPr>
        <p:spPr>
          <a:xfrm>
            <a:off x="1033560" y="96840"/>
            <a:ext cx="952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文本框 4"/>
          <p:cNvSpPr/>
          <p:nvPr/>
        </p:nvSpPr>
        <p:spPr>
          <a:xfrm>
            <a:off x="1986120" y="1370160"/>
            <a:ext cx="10002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假定：～设  ～说  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假如：～若  ～使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借用：～公济私    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5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凭借；依靠：不～思索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文本框 5"/>
          <p:cNvSpPr/>
          <p:nvPr/>
        </p:nvSpPr>
        <p:spPr>
          <a:xfrm>
            <a:off x="1033560" y="2641680"/>
            <a:ext cx="952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文本框 6"/>
          <p:cNvSpPr/>
          <p:nvPr/>
        </p:nvSpPr>
        <p:spPr>
          <a:xfrm>
            <a:off x="1986120" y="2641680"/>
            <a:ext cx="1000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按照规定或经过批准暂时不工作或不学习的时间：请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文本框 1"/>
          <p:cNvSpPr/>
          <p:nvPr/>
        </p:nvSpPr>
        <p:spPr>
          <a:xfrm>
            <a:off x="128520" y="3611520"/>
            <a:ext cx="9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文本框 2"/>
          <p:cNvSpPr/>
          <p:nvPr/>
        </p:nvSpPr>
        <p:spPr>
          <a:xfrm>
            <a:off x="1033560" y="3611520"/>
            <a:ext cx="9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文本框 19"/>
          <p:cNvSpPr/>
          <p:nvPr/>
        </p:nvSpPr>
        <p:spPr>
          <a:xfrm>
            <a:off x="1033560" y="4883040"/>
            <a:ext cx="9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文本框 20"/>
          <p:cNvSpPr/>
          <p:nvPr/>
        </p:nvSpPr>
        <p:spPr>
          <a:xfrm>
            <a:off x="1986120" y="3611520"/>
            <a:ext cx="97153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小桌子：茶～  窗明～净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几乎：歼灭敌军～三千人。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姓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文本框 21"/>
          <p:cNvSpPr/>
          <p:nvPr/>
        </p:nvSpPr>
        <p:spPr>
          <a:xfrm>
            <a:off x="1986120" y="4883040"/>
            <a:ext cx="10004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疑问代词。询问数目（估计数目不太大）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来了～个人？  你能在家住～天？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表示大于一而小于十的不定的数目：～本书  十～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2"/>
          <p:cNvSpPr/>
          <p:nvPr/>
        </p:nvSpPr>
        <p:spPr>
          <a:xfrm>
            <a:off x="318960" y="326880"/>
            <a:ext cx="9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文本框 14"/>
          <p:cNvSpPr/>
          <p:nvPr/>
        </p:nvSpPr>
        <p:spPr>
          <a:xfrm>
            <a:off x="1224000" y="326880"/>
            <a:ext cx="12272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ō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文本框 15"/>
          <p:cNvSpPr/>
          <p:nvPr/>
        </p:nvSpPr>
        <p:spPr>
          <a:xfrm>
            <a:off x="1224000" y="5141880"/>
            <a:ext cx="1228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ò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文本框 16"/>
          <p:cNvSpPr/>
          <p:nvPr/>
        </p:nvSpPr>
        <p:spPr>
          <a:xfrm>
            <a:off x="2452680" y="326880"/>
            <a:ext cx="94359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方位词。跟四周的距离相等；中心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指中国：～文  古今～外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范围内；内部：水～  家～  山～  心～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位置在两端之间的：～秋  ～途  ～锋  ～指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5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等级在两端之间的：～农  ～学  ～型  ～等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6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不偏不倚：～庸  适～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7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中人：做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8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适于；合于：～用   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9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成；行；好：～不～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0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方位词，用在动词后表示持续状态：运行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文本框 17"/>
          <p:cNvSpPr/>
          <p:nvPr/>
        </p:nvSpPr>
        <p:spPr>
          <a:xfrm>
            <a:off x="2452680" y="5141880"/>
            <a:ext cx="9439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正对上；恰好合上：～选  猜～  打～目标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受到；遭受：～毒  ～暑  ～枪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文本框 10"/>
          <p:cNvSpPr/>
          <p:nvPr/>
        </p:nvSpPr>
        <p:spPr>
          <a:xfrm>
            <a:off x="895320" y="397368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8" name="文本框 9"/>
          <p:cNvSpPr/>
          <p:nvPr/>
        </p:nvSpPr>
        <p:spPr>
          <a:xfrm>
            <a:off x="893880" y="38736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ǔ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文本框 16"/>
          <p:cNvSpPr/>
          <p:nvPr/>
        </p:nvSpPr>
        <p:spPr>
          <a:xfrm>
            <a:off x="2176560" y="338040"/>
            <a:ext cx="94359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居住：穴居野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跟别人一起生活；交往：～得来 ～不来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置身在（某地、某情况等）：～变不惊 设身～地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处置；办理：～理 ～事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5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处罚：～治 论～ 惩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6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姓。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文本框 17"/>
          <p:cNvSpPr/>
          <p:nvPr/>
        </p:nvSpPr>
        <p:spPr>
          <a:xfrm>
            <a:off x="2173320" y="3973680"/>
            <a:ext cx="9439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地方：住～ 心灵深～ 大～着眼，小～着手。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机关组织系统中按业务职能划分的单位（级别一般比局低，比科高），也只某些机关：科研～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总务～ 办事～ 联络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1" name="文本框 19"/>
          <p:cNvSpPr/>
          <p:nvPr/>
        </p:nvSpPr>
        <p:spPr>
          <a:xfrm>
            <a:off x="317520" y="387360"/>
            <a:ext cx="90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处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文本框 7"/>
          <p:cNvSpPr/>
          <p:nvPr/>
        </p:nvSpPr>
        <p:spPr>
          <a:xfrm>
            <a:off x="239760" y="272880"/>
            <a:ext cx="55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这样的多音字我还知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3" name="文本框 17"/>
          <p:cNvSpPr/>
          <p:nvPr/>
        </p:nvSpPr>
        <p:spPr>
          <a:xfrm>
            <a:off x="571680" y="1679400"/>
            <a:ext cx="9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压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左大括号 18"/>
          <p:cNvSpPr/>
          <p:nvPr/>
        </p:nvSpPr>
        <p:spPr>
          <a:xfrm>
            <a:off x="1617840" y="1449360"/>
            <a:ext cx="190440" cy="1382760"/>
          </a:xfrm>
          <a:custGeom>
            <a:avLst/>
            <a:gdLst>
              <a:gd name="textAreaLeft" fmla="*/ 121680 w 190440"/>
              <a:gd name="textAreaRight" fmla="*/ 190800 w 190440"/>
              <a:gd name="textAreaTop" fmla="*/ 47880 h 1382760"/>
              <a:gd name="textAreaBottom" fmla="*/ 133488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2"/>
                  <a:pt x="10800" y="2403"/>
                </a:cubicBezTo>
                <a:lnTo>
                  <a:pt x="10800" y="8397"/>
                </a:lnTo>
                <a:cubicBezTo>
                  <a:pt x="10800" y="9599"/>
                  <a:pt x="5400" y="10800"/>
                  <a:pt x="0" y="10800"/>
                </a:cubicBezTo>
                <a:cubicBezTo>
                  <a:pt x="5400" y="10800"/>
                  <a:pt x="10800" y="12002"/>
                  <a:pt x="10800" y="13203"/>
                </a:cubicBezTo>
                <a:lnTo>
                  <a:pt x="10800" y="19197"/>
                </a:lnTo>
                <a:cubicBezTo>
                  <a:pt x="10800" y="20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5" name="文本框 19"/>
          <p:cNvSpPr/>
          <p:nvPr/>
        </p:nvSpPr>
        <p:spPr>
          <a:xfrm>
            <a:off x="1663560" y="12286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y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6" name="文本框 20"/>
          <p:cNvSpPr/>
          <p:nvPr/>
        </p:nvSpPr>
        <p:spPr>
          <a:xfrm>
            <a:off x="1663560" y="24256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y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文本框 21"/>
          <p:cNvSpPr/>
          <p:nvPr/>
        </p:nvSpPr>
        <p:spPr>
          <a:xfrm>
            <a:off x="2773440" y="116676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压力 压缩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文本框 22"/>
          <p:cNvSpPr/>
          <p:nvPr/>
        </p:nvSpPr>
        <p:spPr>
          <a:xfrm>
            <a:off x="2773440" y="2303640"/>
            <a:ext cx="30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压板 压根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9" name="文本框 23"/>
          <p:cNvSpPr/>
          <p:nvPr/>
        </p:nvSpPr>
        <p:spPr>
          <a:xfrm>
            <a:off x="571680" y="3971880"/>
            <a:ext cx="9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差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左大括号 24"/>
          <p:cNvSpPr/>
          <p:nvPr/>
        </p:nvSpPr>
        <p:spPr>
          <a:xfrm>
            <a:off x="1617840" y="3656160"/>
            <a:ext cx="190440" cy="1604880"/>
          </a:xfrm>
          <a:custGeom>
            <a:avLst/>
            <a:gdLst>
              <a:gd name="textAreaLeft" fmla="*/ 121680 w 190440"/>
              <a:gd name="textAreaRight" fmla="*/ 190800 w 190440"/>
              <a:gd name="textAreaTop" fmla="*/ 47880 h 1604880"/>
              <a:gd name="textAreaBottom" fmla="*/ 1557000 h 16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5"/>
                  <a:pt x="10800" y="2070"/>
                </a:cubicBezTo>
                <a:lnTo>
                  <a:pt x="10800" y="8730"/>
                </a:lnTo>
                <a:cubicBezTo>
                  <a:pt x="10800" y="9765"/>
                  <a:pt x="5400" y="10800"/>
                  <a:pt x="0" y="10800"/>
                </a:cubicBezTo>
                <a:cubicBezTo>
                  <a:pt x="5400" y="10800"/>
                  <a:pt x="10800" y="11835"/>
                  <a:pt x="10800" y="12870"/>
                </a:cubicBezTo>
                <a:lnTo>
                  <a:pt x="10800" y="19530"/>
                </a:lnTo>
                <a:cubicBezTo>
                  <a:pt x="10800" y="2056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文本框 25"/>
          <p:cNvSpPr/>
          <p:nvPr/>
        </p:nvSpPr>
        <p:spPr>
          <a:xfrm>
            <a:off x="1663560" y="34354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2" name="文本框 26"/>
          <p:cNvSpPr/>
          <p:nvPr/>
        </p:nvSpPr>
        <p:spPr>
          <a:xfrm>
            <a:off x="1663560" y="416556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3" name="文本框 27"/>
          <p:cNvSpPr/>
          <p:nvPr/>
        </p:nvSpPr>
        <p:spPr>
          <a:xfrm>
            <a:off x="2773440" y="337356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差别 差错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文本框 28"/>
          <p:cNvSpPr/>
          <p:nvPr/>
        </p:nvSpPr>
        <p:spPr>
          <a:xfrm>
            <a:off x="2773440" y="4842000"/>
            <a:ext cx="30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出差 差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5" name="文本框 29"/>
          <p:cNvSpPr/>
          <p:nvPr/>
        </p:nvSpPr>
        <p:spPr>
          <a:xfrm>
            <a:off x="1663560" y="490392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āi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6" name="文本框 30"/>
          <p:cNvSpPr/>
          <p:nvPr/>
        </p:nvSpPr>
        <p:spPr>
          <a:xfrm>
            <a:off x="2773440" y="4079880"/>
            <a:ext cx="30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差劲 差不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7" name="文本框 31"/>
          <p:cNvSpPr/>
          <p:nvPr/>
        </p:nvSpPr>
        <p:spPr>
          <a:xfrm>
            <a:off x="6367320" y="3971880"/>
            <a:ext cx="9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叉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8" name="左大括号 32"/>
          <p:cNvSpPr/>
          <p:nvPr/>
        </p:nvSpPr>
        <p:spPr>
          <a:xfrm>
            <a:off x="7412040" y="3741840"/>
            <a:ext cx="189000" cy="1382760"/>
          </a:xfrm>
          <a:custGeom>
            <a:avLst/>
            <a:gdLst>
              <a:gd name="textAreaLeft" fmla="*/ 120960 w 189000"/>
              <a:gd name="textAreaRight" fmla="*/ 189360 w 189000"/>
              <a:gd name="textAreaTop" fmla="*/ 47520 h 1382760"/>
              <a:gd name="textAreaBottom" fmla="*/ 133524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2"/>
                  <a:pt x="10800" y="2383"/>
                </a:cubicBezTo>
                <a:lnTo>
                  <a:pt x="10800" y="8417"/>
                </a:lnTo>
                <a:cubicBezTo>
                  <a:pt x="10800" y="9609"/>
                  <a:pt x="5400" y="10800"/>
                  <a:pt x="0" y="10800"/>
                </a:cubicBezTo>
                <a:cubicBezTo>
                  <a:pt x="5400" y="10800"/>
                  <a:pt x="10800" y="11992"/>
                  <a:pt x="10800" y="13183"/>
                </a:cubicBezTo>
                <a:lnTo>
                  <a:pt x="10800" y="19217"/>
                </a:lnTo>
                <a:cubicBezTo>
                  <a:pt x="10800" y="204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9" name="文本框 33"/>
          <p:cNvSpPr/>
          <p:nvPr/>
        </p:nvSpPr>
        <p:spPr>
          <a:xfrm>
            <a:off x="7459560" y="3521160"/>
            <a:ext cx="11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0" name="文本框 34"/>
          <p:cNvSpPr/>
          <p:nvPr/>
        </p:nvSpPr>
        <p:spPr>
          <a:xfrm>
            <a:off x="7459560" y="4719600"/>
            <a:ext cx="11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文本框 35"/>
          <p:cNvSpPr/>
          <p:nvPr/>
        </p:nvSpPr>
        <p:spPr>
          <a:xfrm>
            <a:off x="8566200" y="3459240"/>
            <a:ext cx="26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刀叉 叉烧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文本框 36"/>
          <p:cNvSpPr/>
          <p:nvPr/>
        </p:nvSpPr>
        <p:spPr>
          <a:xfrm>
            <a:off x="8566200" y="4595760"/>
            <a:ext cx="30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分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文本框 12"/>
          <p:cNvSpPr/>
          <p:nvPr/>
        </p:nvSpPr>
        <p:spPr>
          <a:xfrm>
            <a:off x="290520" y="192240"/>
            <a:ext cx="1161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下面的成语有什么特点？你还能说出类似的成语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457200" y="1359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发百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5" name="文本框 2"/>
          <p:cNvSpPr/>
          <p:nvPr/>
        </p:nvSpPr>
        <p:spPr>
          <a:xfrm>
            <a:off x="4417920" y="1359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面八方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6" name="文本框 3"/>
          <p:cNvSpPr/>
          <p:nvPr/>
        </p:nvSpPr>
        <p:spPr>
          <a:xfrm>
            <a:off x="8377200" y="1359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上八下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文本框 5"/>
          <p:cNvSpPr/>
          <p:nvPr/>
        </p:nvSpPr>
        <p:spPr>
          <a:xfrm>
            <a:off x="457200" y="288432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战百胜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8" name="文本框 6"/>
          <p:cNvSpPr/>
          <p:nvPr/>
        </p:nvSpPr>
        <p:spPr>
          <a:xfrm>
            <a:off x="4417920" y="288432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通八达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文本框 7"/>
          <p:cNvSpPr/>
          <p:nvPr/>
        </p:nvSpPr>
        <p:spPr>
          <a:xfrm>
            <a:off x="8377200" y="288432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嘴八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文本框 9"/>
          <p:cNvSpPr/>
          <p:nvPr/>
        </p:nvSpPr>
        <p:spPr>
          <a:xfrm>
            <a:off x="457200" y="4410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依百顺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文本框 10"/>
          <p:cNvSpPr/>
          <p:nvPr/>
        </p:nvSpPr>
        <p:spPr>
          <a:xfrm>
            <a:off x="4417920" y="4410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平八稳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文本框 11"/>
          <p:cNvSpPr/>
          <p:nvPr/>
        </p:nvSpPr>
        <p:spPr>
          <a:xfrm>
            <a:off x="8377200" y="4410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手八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圆角矩形标注 14"/>
          <p:cNvSpPr/>
          <p:nvPr/>
        </p:nvSpPr>
        <p:spPr>
          <a:xfrm>
            <a:off x="9612360" y="260280"/>
            <a:ext cx="2374920" cy="2809800"/>
          </a:xfrm>
          <a:prstGeom prst="wedgeRoundRectCallout">
            <a:avLst>
              <a:gd name="adj1" fmla="val -78328"/>
              <a:gd name="adj2" fmla="val 49500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这些成语都带有两个数字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4" name="文本框 15"/>
          <p:cNvSpPr/>
          <p:nvPr/>
        </p:nvSpPr>
        <p:spPr>
          <a:xfrm>
            <a:off x="203040" y="89064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发百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5" name="文本框 16"/>
          <p:cNvSpPr/>
          <p:nvPr/>
        </p:nvSpPr>
        <p:spPr>
          <a:xfrm>
            <a:off x="2862360" y="89064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面八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6" name="文本框 17"/>
          <p:cNvSpPr/>
          <p:nvPr/>
        </p:nvSpPr>
        <p:spPr>
          <a:xfrm>
            <a:off x="5505480" y="89064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上八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7" name="文本框 18"/>
          <p:cNvSpPr/>
          <p:nvPr/>
        </p:nvSpPr>
        <p:spPr>
          <a:xfrm>
            <a:off x="203040" y="20988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战百胜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8" name="文本框 19"/>
          <p:cNvSpPr/>
          <p:nvPr/>
        </p:nvSpPr>
        <p:spPr>
          <a:xfrm>
            <a:off x="2862360" y="209880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通八达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9" name="文本框 20"/>
          <p:cNvSpPr/>
          <p:nvPr/>
        </p:nvSpPr>
        <p:spPr>
          <a:xfrm>
            <a:off x="5505480" y="20988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嘴八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0" name="文本框 21"/>
          <p:cNvSpPr/>
          <p:nvPr/>
        </p:nvSpPr>
        <p:spPr>
          <a:xfrm>
            <a:off x="203040" y="33084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依百顺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1" name="文本框 22"/>
          <p:cNvSpPr/>
          <p:nvPr/>
        </p:nvSpPr>
        <p:spPr>
          <a:xfrm>
            <a:off x="2862360" y="330840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平八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2" name="文本框 23"/>
          <p:cNvSpPr/>
          <p:nvPr/>
        </p:nvSpPr>
        <p:spPr>
          <a:xfrm>
            <a:off x="5505480" y="33084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手八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3" name="文本框 24"/>
          <p:cNvSpPr/>
          <p:nvPr/>
        </p:nvSpPr>
        <p:spPr>
          <a:xfrm>
            <a:off x="203040" y="441972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百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百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4" name="文本框 25"/>
          <p:cNvSpPr/>
          <p:nvPr/>
        </p:nvSpPr>
        <p:spPr>
          <a:xfrm>
            <a:off x="2862360" y="441972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四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八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5" name="文本框 26"/>
          <p:cNvSpPr/>
          <p:nvPr/>
        </p:nvSpPr>
        <p:spPr>
          <a:xfrm>
            <a:off x="5505480" y="441972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七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八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文本框 7"/>
          <p:cNvSpPr/>
          <p:nvPr/>
        </p:nvSpPr>
        <p:spPr>
          <a:xfrm>
            <a:off x="239760" y="272880"/>
            <a:ext cx="55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这样的成语我还知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7" name="文本框 1"/>
          <p:cNvSpPr/>
          <p:nvPr/>
        </p:nvSpPr>
        <p:spPr>
          <a:xfrm>
            <a:off x="457200" y="117468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方百计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文本框 2"/>
          <p:cNvSpPr/>
          <p:nvPr/>
        </p:nvSpPr>
        <p:spPr>
          <a:xfrm>
            <a:off x="4417920" y="117468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模一样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9" name="文本框 3"/>
          <p:cNvSpPr/>
          <p:nvPr/>
        </p:nvSpPr>
        <p:spPr>
          <a:xfrm>
            <a:off x="457200" y="575928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娇百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0" name="文本框 5"/>
          <p:cNvSpPr/>
          <p:nvPr/>
        </p:nvSpPr>
        <p:spPr>
          <a:xfrm>
            <a:off x="457200" y="270036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锤百炼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1" name="文本框 6"/>
          <p:cNvSpPr/>
          <p:nvPr/>
        </p:nvSpPr>
        <p:spPr>
          <a:xfrm>
            <a:off x="4417920" y="270036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生一世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2" name="文本框 4"/>
          <p:cNvSpPr/>
          <p:nvPr/>
        </p:nvSpPr>
        <p:spPr>
          <a:xfrm>
            <a:off x="8377200" y="270036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三心二意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3" name="文本框 9"/>
          <p:cNvSpPr/>
          <p:nvPr/>
        </p:nvSpPr>
        <p:spPr>
          <a:xfrm>
            <a:off x="457200" y="422604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疮百孔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4" name="文本框 10"/>
          <p:cNvSpPr/>
          <p:nvPr/>
        </p:nvSpPr>
        <p:spPr>
          <a:xfrm>
            <a:off x="4417920" y="422604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五一十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5" name="文本框 11"/>
          <p:cNvSpPr/>
          <p:nvPr/>
        </p:nvSpPr>
        <p:spPr>
          <a:xfrm>
            <a:off x="8377200" y="422604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三言两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12"/>
          <p:cNvSpPr/>
          <p:nvPr/>
        </p:nvSpPr>
        <p:spPr>
          <a:xfrm>
            <a:off x="351000" y="177840"/>
            <a:ext cx="11491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读句子，说说你有什么发现，照样子写一写，注意引号的用法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7" name="文本框 15"/>
          <p:cNvSpPr/>
          <p:nvPr/>
        </p:nvSpPr>
        <p:spPr>
          <a:xfrm>
            <a:off x="646200" y="1800360"/>
            <a:ext cx="109029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202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鸟儿问女孩：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小姑娘，请告诉我，你知道火柴在哪儿吗？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202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救命啊！救命啊！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红头拼命地叫了起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202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哎呀，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狐狸说道，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原来是这样！你这是给我设了一个圈套啊！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6" descr=""/>
          <p:cNvPicPr/>
          <p:nvPr/>
        </p:nvPicPr>
        <p:blipFill>
          <a:blip r:embed="rId1"/>
          <a:srcRect l="0" t="14685" r="72004" b="61220"/>
          <a:stretch/>
        </p:blipFill>
        <p:spPr>
          <a:xfrm>
            <a:off x="357120" y="235080"/>
            <a:ext cx="2384640" cy="23493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5" descr=""/>
          <p:cNvPicPr/>
          <p:nvPr/>
        </p:nvPicPr>
        <p:blipFill>
          <a:blip r:embed="rId2"/>
          <a:srcRect l="74786" t="14685" r="0" b="61220"/>
          <a:stretch/>
        </p:blipFill>
        <p:spPr>
          <a:xfrm>
            <a:off x="476280" y="4278240"/>
            <a:ext cx="2146320" cy="235116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"/>
          <p:cNvPicPr/>
          <p:nvPr/>
        </p:nvPicPr>
        <p:blipFill>
          <a:blip r:embed="rId3"/>
          <a:srcRect l="22672" t="39518" r="52351" b="35996"/>
          <a:stretch/>
        </p:blipFill>
        <p:spPr>
          <a:xfrm>
            <a:off x="7456320" y="2235240"/>
            <a:ext cx="2127240" cy="2387520"/>
          </a:xfrm>
          <a:prstGeom prst="rect">
            <a:avLst/>
          </a:prstGeom>
          <a:ln w="0">
            <a:noFill/>
          </a:ln>
        </p:spPr>
      </p:pic>
      <p:sp>
        <p:nvSpPr>
          <p:cNvPr id="741" name="圆角矩形标注 8"/>
          <p:cNvSpPr/>
          <p:nvPr/>
        </p:nvSpPr>
        <p:spPr>
          <a:xfrm>
            <a:off x="2997360" y="371520"/>
            <a:ext cx="5948280" cy="1603440"/>
          </a:xfrm>
          <a:prstGeom prst="wedgeRoundRectCallout">
            <a:avLst>
              <a:gd name="adj1" fmla="val -53898"/>
              <a:gd name="adj2" fmla="val -30398"/>
              <a:gd name="adj3" fmla="val 16667"/>
            </a:avLst>
          </a:prstGeom>
          <a:solidFill>
            <a:srgbClr val="e7e6ed"/>
          </a:solidFill>
          <a:ln w="12600">
            <a:solidFill>
              <a:srgbClr val="dad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我发现这些句子都用了拟人手法，把动物当成人来写的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圆角矩形标注 9"/>
          <p:cNvSpPr/>
          <p:nvPr/>
        </p:nvSpPr>
        <p:spPr>
          <a:xfrm>
            <a:off x="1201680" y="2627280"/>
            <a:ext cx="5948280" cy="1603440"/>
          </a:xfrm>
          <a:prstGeom prst="wedgeRoundRectCallout">
            <a:avLst>
              <a:gd name="adj1" fmla="val 55166"/>
              <a:gd name="adj2" fmla="val -30398"/>
              <a:gd name="adj3" fmla="val 16667"/>
            </a:avLst>
          </a:prstGeom>
          <a:solidFill>
            <a:srgbClr val="f3f3ff"/>
          </a:solidFill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我发现这些句子都是写的小动物们说的话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圆角矩形标注 10"/>
          <p:cNvSpPr/>
          <p:nvPr/>
        </p:nvSpPr>
        <p:spPr>
          <a:xfrm>
            <a:off x="2622600" y="4881600"/>
            <a:ext cx="4216320" cy="1423800"/>
          </a:xfrm>
          <a:prstGeom prst="wedgeRoundRectCallout">
            <a:avLst>
              <a:gd name="adj1" fmla="val -53129"/>
              <a:gd name="adj2" fmla="val -25601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我发现说话的部分都用了双引号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3" descr=""/>
          <p:cNvPicPr/>
          <p:nvPr/>
        </p:nvPicPr>
        <p:blipFill>
          <a:blip r:embed="rId1"/>
          <a:srcRect l="11245" t="7875" r="70920" b="66875"/>
          <a:stretch/>
        </p:blipFill>
        <p:spPr>
          <a:xfrm>
            <a:off x="10358280" y="2606760"/>
            <a:ext cx="1298880" cy="141120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4" descr=""/>
          <p:cNvPicPr/>
          <p:nvPr/>
        </p:nvPicPr>
        <p:blipFill>
          <a:blip r:embed="rId2"/>
          <a:srcRect l="57823" t="8252" r="24343" b="66498"/>
          <a:stretch/>
        </p:blipFill>
        <p:spPr>
          <a:xfrm>
            <a:off x="203040" y="3801960"/>
            <a:ext cx="1300320" cy="141156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5" descr=""/>
          <p:cNvPicPr/>
          <p:nvPr/>
        </p:nvPicPr>
        <p:blipFill>
          <a:blip r:embed="rId3"/>
          <a:srcRect l="33831" t="8802" r="48340" b="65954"/>
          <a:stretch/>
        </p:blipFill>
        <p:spPr>
          <a:xfrm>
            <a:off x="10358280" y="5429160"/>
            <a:ext cx="1298880" cy="140976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6" descr=""/>
          <p:cNvPicPr/>
          <p:nvPr/>
        </p:nvPicPr>
        <p:blipFill>
          <a:blip r:embed="rId4"/>
          <a:srcRect l="3041" t="53700" r="79125" b="23187"/>
          <a:stretch/>
        </p:blipFill>
        <p:spPr>
          <a:xfrm>
            <a:off x="203040" y="1101600"/>
            <a:ext cx="1300320" cy="129060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标注 7"/>
          <p:cNvSpPr/>
          <p:nvPr/>
        </p:nvSpPr>
        <p:spPr>
          <a:xfrm>
            <a:off x="1503360" y="1101600"/>
            <a:ext cx="8854920" cy="1290600"/>
          </a:xfrm>
          <a:prstGeom prst="wedgeRoundRectCallout">
            <a:avLst>
              <a:gd name="adj1" fmla="val -51893"/>
              <a:gd name="adj2" fmla="val -33768"/>
              <a:gd name="adj3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一边读，一边预测后面的内容，可以帮助我们更好地理解文章的意思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圆角矩形标注 8"/>
          <p:cNvSpPr/>
          <p:nvPr/>
        </p:nvSpPr>
        <p:spPr>
          <a:xfrm>
            <a:off x="1333440" y="2511360"/>
            <a:ext cx="8856720" cy="1290600"/>
          </a:xfrm>
          <a:prstGeom prst="wedgeRoundRectCallout">
            <a:avLst>
              <a:gd name="adj1" fmla="val 51490"/>
              <a:gd name="adj2" fmla="val -19504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为了预测得更准确，我读书更仔细了，注意到了更多的细节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圆角矩形标注 10"/>
          <p:cNvSpPr/>
          <p:nvPr/>
        </p:nvSpPr>
        <p:spPr>
          <a:xfrm>
            <a:off x="1503360" y="3922560"/>
            <a:ext cx="8854920" cy="1290960"/>
          </a:xfrm>
          <a:prstGeom prst="wedgeRoundRectCallout">
            <a:avLst>
              <a:gd name="adj1" fmla="val -51893"/>
              <a:gd name="adj2" fmla="val -33768"/>
              <a:gd name="adj3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我在图书馆里找书看时，会先看标题，猜猜书的大致内容，再决定要不要看这本书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圆角矩形标注 11"/>
          <p:cNvSpPr/>
          <p:nvPr/>
        </p:nvSpPr>
        <p:spPr>
          <a:xfrm>
            <a:off x="1333440" y="5332320"/>
            <a:ext cx="8856720" cy="1290600"/>
          </a:xfrm>
          <a:prstGeom prst="wedgeRoundRectCallout">
            <a:avLst>
              <a:gd name="adj1" fmla="val 51490"/>
              <a:gd name="adj2" fmla="val -19504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查找资料时，也可以用预测的方法判断资料是否有用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5" name="组合 15"/>
          <p:cNvGrpSpPr/>
          <p:nvPr/>
        </p:nvGrpSpPr>
        <p:grpSpPr>
          <a:xfrm>
            <a:off x="406440" y="182520"/>
            <a:ext cx="3220920" cy="714240"/>
            <a:chOff x="406440" y="182520"/>
            <a:chExt cx="3220920" cy="714240"/>
          </a:xfrm>
        </p:grpSpPr>
        <p:pic>
          <p:nvPicPr>
            <p:cNvPr id="516" name="图片 1" descr="PPT图标蓝色"/>
            <p:cNvPicPr/>
            <p:nvPr/>
          </p:nvPicPr>
          <p:blipFill>
            <a:blip r:embed="rId5"/>
            <a:srcRect l="14815" t="0" r="0" b="0"/>
            <a:stretch/>
          </p:blipFill>
          <p:spPr>
            <a:xfrm>
              <a:off x="406440" y="18252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Box 76"/>
            <p:cNvSpPr/>
            <p:nvPr/>
          </p:nvSpPr>
          <p:spPr>
            <a:xfrm>
              <a:off x="406440" y="19080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交流平台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1"/>
          <p:cNvSpPr/>
          <p:nvPr/>
        </p:nvSpPr>
        <p:spPr>
          <a:xfrm>
            <a:off x="222120" y="304920"/>
            <a:ext cx="78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引号的基本用法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直接引用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文本框 15"/>
          <p:cNvSpPr/>
          <p:nvPr/>
        </p:nvSpPr>
        <p:spPr>
          <a:xfrm>
            <a:off x="109440" y="1073160"/>
            <a:ext cx="74678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40000"/>
              </a:lnSpc>
              <a:buClr>
                <a:srgbClr val="4a452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鸟儿问女孩：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小姑娘，请告诉我，你知道火柴在哪儿吗？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4a452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救命啊！救命啊！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红头拼命地叫了起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4a452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哎呀，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狐狸说道，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原来是这样！你这是给我设了一个圈套啊！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6" descr=""/>
          <p:cNvPicPr/>
          <p:nvPr/>
        </p:nvPicPr>
        <p:blipFill>
          <a:blip r:embed="rId1"/>
          <a:srcRect l="0" t="14685" r="72004" b="61220"/>
          <a:stretch/>
        </p:blipFill>
        <p:spPr>
          <a:xfrm>
            <a:off x="357120" y="235080"/>
            <a:ext cx="2384640" cy="234936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2"/>
          <a:srcRect l="74786" t="14685" r="0" b="61220"/>
          <a:stretch/>
        </p:blipFill>
        <p:spPr>
          <a:xfrm>
            <a:off x="476280" y="4278240"/>
            <a:ext cx="2146320" cy="235116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7" descr=""/>
          <p:cNvPicPr/>
          <p:nvPr/>
        </p:nvPicPr>
        <p:blipFill>
          <a:blip r:embed="rId3"/>
          <a:srcRect l="22672" t="39518" r="52351" b="35996"/>
          <a:stretch/>
        </p:blipFill>
        <p:spPr>
          <a:xfrm>
            <a:off x="7456320" y="2235240"/>
            <a:ext cx="2127240" cy="2387520"/>
          </a:xfrm>
          <a:prstGeom prst="rect">
            <a:avLst/>
          </a:prstGeom>
          <a:ln w="0">
            <a:noFill/>
          </a:ln>
        </p:spPr>
      </p:pic>
      <p:sp>
        <p:nvSpPr>
          <p:cNvPr id="749" name="圆角矩形标注 8"/>
          <p:cNvSpPr/>
          <p:nvPr/>
        </p:nvSpPr>
        <p:spPr>
          <a:xfrm>
            <a:off x="2997360" y="371520"/>
            <a:ext cx="5948280" cy="1603440"/>
          </a:xfrm>
          <a:prstGeom prst="wedgeRoundRectCallout">
            <a:avLst>
              <a:gd name="adj1" fmla="val -53898"/>
              <a:gd name="adj2" fmla="val -30398"/>
              <a:gd name="adj3" fmla="val 16667"/>
            </a:avLst>
          </a:prstGeom>
          <a:solidFill>
            <a:srgbClr val="e7e6ed"/>
          </a:solidFill>
          <a:ln w="12600">
            <a:solidFill>
              <a:srgbClr val="dad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第一句是说话者在前，说的话在后的情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圆角矩形标注 9"/>
          <p:cNvSpPr/>
          <p:nvPr/>
        </p:nvSpPr>
        <p:spPr>
          <a:xfrm>
            <a:off x="1201680" y="2627280"/>
            <a:ext cx="5948280" cy="1603440"/>
          </a:xfrm>
          <a:prstGeom prst="wedgeRoundRectCallout">
            <a:avLst>
              <a:gd name="adj1" fmla="val 55166"/>
              <a:gd name="adj2" fmla="val -30398"/>
              <a:gd name="adj3" fmla="val 16667"/>
            </a:avLst>
          </a:prstGeom>
          <a:solidFill>
            <a:srgbClr val="f3f3ff"/>
          </a:solidFill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第二句是说的话在前，说话者在后的情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圆角矩形标注 10"/>
          <p:cNvSpPr/>
          <p:nvPr/>
        </p:nvSpPr>
        <p:spPr>
          <a:xfrm>
            <a:off x="2622600" y="4729320"/>
            <a:ext cx="4216320" cy="1900080"/>
          </a:xfrm>
          <a:prstGeom prst="wedgeRoundRectCallout">
            <a:avLst>
              <a:gd name="adj1" fmla="val -53129"/>
              <a:gd name="adj2" fmla="val -25601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第三句是说话者在中间，前后都有说的话的情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文本框 7"/>
          <p:cNvSpPr/>
          <p:nvPr/>
        </p:nvSpPr>
        <p:spPr>
          <a:xfrm>
            <a:off x="222120" y="304920"/>
            <a:ext cx="78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引号的基本用法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直接引用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文本框 15"/>
          <p:cNvSpPr/>
          <p:nvPr/>
        </p:nvSpPr>
        <p:spPr>
          <a:xfrm>
            <a:off x="109440" y="1165320"/>
            <a:ext cx="795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直接引用就是指把说的话完整地记录下来，根据说话者在句中的位置可以分为三种情况，分别是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4" name="文本框 8"/>
          <p:cNvSpPr/>
          <p:nvPr/>
        </p:nvSpPr>
        <p:spPr>
          <a:xfrm>
            <a:off x="868320" y="3841920"/>
            <a:ext cx="450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40000"/>
              </a:lnSpc>
              <a:buClr>
                <a:srgbClr val="1e1c11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说话人在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1e1c11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说话人在中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1e1c11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说话人在后面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5" name="文本框 12"/>
          <p:cNvSpPr/>
          <p:nvPr/>
        </p:nvSpPr>
        <p:spPr>
          <a:xfrm>
            <a:off x="7926480" y="3335400"/>
            <a:ext cx="4016160" cy="1361160"/>
          </a:xfrm>
          <a:prstGeom prst="rect">
            <a:avLst/>
          </a:prstGeom>
          <a:noFill/>
          <a:ln w="44280">
            <a:solidFill>
              <a:srgbClr val="385d8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953735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3200" spc="-1" strike="noStrike" u="sng">
                <a:solidFill>
                  <a:srgbClr val="953735"/>
                </a:solidFill>
                <a:uFillTx/>
                <a:latin typeface="Arial"/>
                <a:ea typeface="宋体"/>
              </a:rPr>
              <a:t>一定要注意逗号、冒号、引号、句号在句中的位置和用法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文本框 15"/>
          <p:cNvSpPr/>
          <p:nvPr/>
        </p:nvSpPr>
        <p:spPr>
          <a:xfrm>
            <a:off x="646200" y="1000080"/>
            <a:ext cx="1090296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人心齐，泰山移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二人同心，其利断金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三个臭皮匠，顶个诸葛亮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个篱笆三个桩，一个好汉三个帮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57" name="组合 1"/>
          <p:cNvGrpSpPr/>
          <p:nvPr/>
        </p:nvGrpSpPr>
        <p:grpSpPr>
          <a:xfrm>
            <a:off x="406440" y="182520"/>
            <a:ext cx="3220920" cy="714240"/>
            <a:chOff x="406440" y="182520"/>
            <a:chExt cx="3220920" cy="714240"/>
          </a:xfrm>
        </p:grpSpPr>
        <p:pic>
          <p:nvPicPr>
            <p:cNvPr id="758" name="图片 2" descr="PPT图标蓝色"/>
            <p:cNvPicPr/>
            <p:nvPr/>
          </p:nvPicPr>
          <p:blipFill>
            <a:blip r:embed="rId1"/>
            <a:srcRect l="14815" t="0" r="0" b="0"/>
            <a:stretch/>
          </p:blipFill>
          <p:spPr>
            <a:xfrm>
              <a:off x="406440" y="18252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Box 76"/>
            <p:cNvSpPr/>
            <p:nvPr/>
          </p:nvSpPr>
          <p:spPr>
            <a:xfrm>
              <a:off x="406440" y="190800"/>
              <a:ext cx="230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日积月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图片 5" descr=""/>
          <p:cNvPicPr/>
          <p:nvPr/>
        </p:nvPicPr>
        <p:blipFill>
          <a:blip r:embed="rId1"/>
          <a:srcRect l="48981" t="14441" r="24850" b="61287"/>
          <a:stretch/>
        </p:blipFill>
        <p:spPr>
          <a:xfrm>
            <a:off x="141120" y="4260960"/>
            <a:ext cx="2229120" cy="23684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7" descr=""/>
          <p:cNvPicPr/>
          <p:nvPr/>
        </p:nvPicPr>
        <p:blipFill>
          <a:blip r:embed="rId2"/>
          <a:srcRect l="-152" t="15069" r="71767" b="60445"/>
          <a:stretch/>
        </p:blipFill>
        <p:spPr>
          <a:xfrm>
            <a:off x="7396200" y="2235240"/>
            <a:ext cx="2415960" cy="2387520"/>
          </a:xfrm>
          <a:prstGeom prst="rect">
            <a:avLst/>
          </a:prstGeom>
          <a:ln w="0">
            <a:noFill/>
          </a:ln>
        </p:spPr>
      </p:pic>
      <p:sp>
        <p:nvSpPr>
          <p:cNvPr id="762" name="圆角矩形标注 8"/>
          <p:cNvSpPr/>
          <p:nvPr/>
        </p:nvSpPr>
        <p:spPr>
          <a:xfrm>
            <a:off x="2997360" y="371520"/>
            <a:ext cx="5948280" cy="1603440"/>
          </a:xfrm>
          <a:prstGeom prst="wedgeRoundRectCallout">
            <a:avLst>
              <a:gd name="adj1" fmla="val -53898"/>
              <a:gd name="adj2" fmla="val -30398"/>
              <a:gd name="adj3" fmla="val 16667"/>
            </a:avLst>
          </a:prstGeom>
          <a:solidFill>
            <a:srgbClr val="e7e6ed"/>
          </a:solidFill>
          <a:ln w="12600">
            <a:solidFill>
              <a:srgbClr val="dad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我知道这些谚语都是告诉我们团结一心的重要性的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圆角矩形标注 9"/>
          <p:cNvSpPr/>
          <p:nvPr/>
        </p:nvSpPr>
        <p:spPr>
          <a:xfrm>
            <a:off x="1187280" y="2627280"/>
            <a:ext cx="5948640" cy="1603440"/>
          </a:xfrm>
          <a:prstGeom prst="wedgeRoundRectCallout">
            <a:avLst>
              <a:gd name="adj1" fmla="val 55166"/>
              <a:gd name="adj2" fmla="val -30398"/>
              <a:gd name="adj3" fmla="val 16667"/>
            </a:avLst>
          </a:prstGeom>
          <a:solidFill>
            <a:srgbClr val="f3f3ff"/>
          </a:solidFill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团结友爱，和谐互助很重要，在生活学习中都应该这样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4" name="圆角矩形标注 10"/>
          <p:cNvSpPr/>
          <p:nvPr/>
        </p:nvSpPr>
        <p:spPr>
          <a:xfrm>
            <a:off x="2622600" y="4729320"/>
            <a:ext cx="4216320" cy="1900080"/>
          </a:xfrm>
          <a:prstGeom prst="wedgeRoundRectCallout">
            <a:avLst>
              <a:gd name="adj1" fmla="val -53129"/>
              <a:gd name="adj2" fmla="val -25601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这四句谚语我都会背了，我还另外收集了一些同类谚语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65" name="图片 1" descr=""/>
          <p:cNvPicPr/>
          <p:nvPr/>
        </p:nvPicPr>
        <p:blipFill>
          <a:blip r:embed="rId3"/>
          <a:srcRect l="40203" t="62549" r="26732" b="11806"/>
          <a:stretch/>
        </p:blipFill>
        <p:spPr>
          <a:xfrm>
            <a:off x="141120" y="20520"/>
            <a:ext cx="2816280" cy="25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7"/>
          <p:cNvSpPr/>
          <p:nvPr/>
        </p:nvSpPr>
        <p:spPr>
          <a:xfrm>
            <a:off x="360360" y="457200"/>
            <a:ext cx="783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关于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团结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的谚语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文本框 15"/>
          <p:cNvSpPr/>
          <p:nvPr/>
        </p:nvSpPr>
        <p:spPr>
          <a:xfrm>
            <a:off x="1414440" y="1287360"/>
            <a:ext cx="79502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人多山倒，力众海移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柴多火焰高，人多办法好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星多天空亮，人多智慧广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众人一条心，黄土变成金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砖连砖成墙，瓦连瓦成房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文本框 3"/>
          <p:cNvSpPr/>
          <p:nvPr/>
        </p:nvSpPr>
        <p:spPr>
          <a:xfrm>
            <a:off x="820800" y="390600"/>
            <a:ext cx="5084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学习新方法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预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文本框 4"/>
          <p:cNvSpPr/>
          <p:nvPr/>
        </p:nvSpPr>
        <p:spPr>
          <a:xfrm>
            <a:off x="1389240" y="1341360"/>
            <a:ext cx="941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预测不是随意猜测，要有一定的依据（原文内容、生活经验或生活常识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)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预测是大胆想象，只要合理并与原文保持一致就可以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预测的结果可能与实际结局一样，也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可能与实际结局不一样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3"/>
          <p:cNvSpPr/>
          <p:nvPr/>
        </p:nvSpPr>
        <p:spPr>
          <a:xfrm>
            <a:off x="552600" y="4581360"/>
            <a:ext cx="11088360" cy="1943280"/>
          </a:xfrm>
          <a:prstGeom prst="rect">
            <a:avLst/>
          </a:prstGeom>
          <a:solidFill>
            <a:srgbClr val="80808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文本框 12"/>
          <p:cNvSpPr/>
          <p:nvPr/>
        </p:nvSpPr>
        <p:spPr>
          <a:xfrm>
            <a:off x="431640" y="981000"/>
            <a:ext cx="1132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你认识下面这些加点的字吗？查字典认一认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文本框 1"/>
          <p:cNvSpPr/>
          <p:nvPr/>
        </p:nvSpPr>
        <p:spPr>
          <a:xfrm>
            <a:off x="2408400" y="186228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字典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文本框 2"/>
          <p:cNvSpPr/>
          <p:nvPr/>
        </p:nvSpPr>
        <p:spPr>
          <a:xfrm>
            <a:off x="5106960" y="1862280"/>
            <a:ext cx="197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基础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文本框 13"/>
          <p:cNvSpPr/>
          <p:nvPr/>
        </p:nvSpPr>
        <p:spPr>
          <a:xfrm>
            <a:off x="7799400" y="186228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阁楼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文本框 14"/>
          <p:cNvSpPr/>
          <p:nvPr/>
        </p:nvSpPr>
        <p:spPr>
          <a:xfrm>
            <a:off x="2408400" y="308916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佳节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文本框 15"/>
          <p:cNvSpPr/>
          <p:nvPr/>
        </p:nvSpPr>
        <p:spPr>
          <a:xfrm>
            <a:off x="7799400" y="308916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巩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文本框 16"/>
          <p:cNvSpPr/>
          <p:nvPr/>
        </p:nvSpPr>
        <p:spPr>
          <a:xfrm>
            <a:off x="5106960" y="3089160"/>
            <a:ext cx="197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盲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直接连接符 17"/>
          <p:cNvSpPr/>
          <p:nvPr/>
        </p:nvSpPr>
        <p:spPr>
          <a:xfrm>
            <a:off x="914400" y="5213520"/>
            <a:ext cx="10363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文本框 20"/>
          <p:cNvSpPr/>
          <p:nvPr/>
        </p:nvSpPr>
        <p:spPr>
          <a:xfrm>
            <a:off x="5551560" y="5202360"/>
            <a:ext cx="11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阁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文本框 21"/>
          <p:cNvSpPr/>
          <p:nvPr/>
        </p:nvSpPr>
        <p:spPr>
          <a:xfrm>
            <a:off x="7066080" y="5216400"/>
            <a:ext cx="11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佳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文本框 22"/>
          <p:cNvSpPr/>
          <p:nvPr/>
        </p:nvSpPr>
        <p:spPr>
          <a:xfrm>
            <a:off x="8580600" y="5216400"/>
            <a:ext cx="112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盲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文本框 23"/>
          <p:cNvSpPr/>
          <p:nvPr/>
        </p:nvSpPr>
        <p:spPr>
          <a:xfrm>
            <a:off x="1008000" y="5187960"/>
            <a:ext cx="11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典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文本框 24"/>
          <p:cNvSpPr/>
          <p:nvPr/>
        </p:nvSpPr>
        <p:spPr>
          <a:xfrm>
            <a:off x="2522520" y="5202360"/>
            <a:ext cx="11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基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文本框 25"/>
          <p:cNvSpPr/>
          <p:nvPr/>
        </p:nvSpPr>
        <p:spPr>
          <a:xfrm>
            <a:off x="4037040" y="5202360"/>
            <a:ext cx="11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础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文本框 26"/>
          <p:cNvSpPr/>
          <p:nvPr/>
        </p:nvSpPr>
        <p:spPr>
          <a:xfrm>
            <a:off x="814320" y="450864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diǎn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文本框 27"/>
          <p:cNvSpPr/>
          <p:nvPr/>
        </p:nvSpPr>
        <p:spPr>
          <a:xfrm>
            <a:off x="2328840" y="4508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ī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文本框 28"/>
          <p:cNvSpPr/>
          <p:nvPr/>
        </p:nvSpPr>
        <p:spPr>
          <a:xfrm>
            <a:off x="3843360" y="450864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5357880" y="4481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gé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6872400" y="449568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文本框 32"/>
          <p:cNvSpPr/>
          <p:nvPr/>
        </p:nvSpPr>
        <p:spPr>
          <a:xfrm>
            <a:off x="8386920" y="4481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má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文本框 33"/>
          <p:cNvSpPr/>
          <p:nvPr/>
        </p:nvSpPr>
        <p:spPr>
          <a:xfrm>
            <a:off x="10094760" y="5216400"/>
            <a:ext cx="11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唐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直接连接符 34"/>
          <p:cNvSpPr/>
          <p:nvPr/>
        </p:nvSpPr>
        <p:spPr>
          <a:xfrm>
            <a:off x="914400" y="6384960"/>
            <a:ext cx="10363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文本框 35"/>
          <p:cNvSpPr/>
          <p:nvPr/>
        </p:nvSpPr>
        <p:spPr>
          <a:xfrm>
            <a:off x="9901080" y="450864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tá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4" name="图片 37" descr=""/>
          <p:cNvPicPr/>
          <p:nvPr/>
        </p:nvPicPr>
        <p:blipFill>
          <a:blip r:embed="rId1"/>
          <a:srcRect l="3517" t="26107" r="56301" b="33796"/>
          <a:stretch/>
        </p:blipFill>
        <p:spPr>
          <a:xfrm>
            <a:off x="3611520" y="2781360"/>
            <a:ext cx="492120" cy="4474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8" descr=""/>
          <p:cNvPicPr/>
          <p:nvPr/>
        </p:nvPicPr>
        <p:blipFill>
          <a:blip r:embed="rId2"/>
          <a:srcRect l="3517" t="26107" r="56301" b="33796"/>
          <a:stretch/>
        </p:blipFill>
        <p:spPr>
          <a:xfrm>
            <a:off x="5402160" y="2781360"/>
            <a:ext cx="495360" cy="44748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39" descr=""/>
          <p:cNvPicPr/>
          <p:nvPr/>
        </p:nvPicPr>
        <p:blipFill>
          <a:blip r:embed="rId3"/>
          <a:srcRect l="3517" t="26107" r="56301" b="33796"/>
          <a:stretch/>
        </p:blipFill>
        <p:spPr>
          <a:xfrm>
            <a:off x="6369120" y="2781360"/>
            <a:ext cx="495360" cy="4474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4"/>
          <a:srcRect l="3517" t="26107" r="56301" b="33796"/>
          <a:stretch/>
        </p:blipFill>
        <p:spPr>
          <a:xfrm>
            <a:off x="8204040" y="2781360"/>
            <a:ext cx="495360" cy="44748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5"/>
          <a:srcRect l="3517" t="26107" r="56301" b="33796"/>
          <a:stretch/>
        </p:blipFill>
        <p:spPr>
          <a:xfrm>
            <a:off x="2813040" y="3978360"/>
            <a:ext cx="493560" cy="4474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3" descr=""/>
          <p:cNvPicPr/>
          <p:nvPr/>
        </p:nvPicPr>
        <p:blipFill>
          <a:blip r:embed="rId6"/>
          <a:srcRect l="3517" t="26107" r="56301" b="33796"/>
          <a:stretch/>
        </p:blipFill>
        <p:spPr>
          <a:xfrm>
            <a:off x="5402160" y="3994200"/>
            <a:ext cx="495360" cy="4460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44" descr=""/>
          <p:cNvPicPr/>
          <p:nvPr/>
        </p:nvPicPr>
        <p:blipFill>
          <a:blip r:embed="rId7"/>
          <a:srcRect l="3517" t="26107" r="56301" b="33796"/>
          <a:stretch/>
        </p:blipFill>
        <p:spPr>
          <a:xfrm>
            <a:off x="8101080" y="3978360"/>
            <a:ext cx="495360" cy="447480"/>
          </a:xfrm>
          <a:prstGeom prst="rect">
            <a:avLst/>
          </a:prstGeom>
          <a:ln w="0">
            <a:noFill/>
          </a:ln>
        </p:spPr>
      </p:pic>
      <p:grpSp>
        <p:nvGrpSpPr>
          <p:cNvPr id="551" name="组合 4"/>
          <p:cNvGrpSpPr/>
          <p:nvPr/>
        </p:nvGrpSpPr>
        <p:grpSpPr>
          <a:xfrm>
            <a:off x="406440" y="182520"/>
            <a:ext cx="4129200" cy="714240"/>
            <a:chOff x="406440" y="182520"/>
            <a:chExt cx="4129200" cy="714240"/>
          </a:xfrm>
        </p:grpSpPr>
        <p:pic>
          <p:nvPicPr>
            <p:cNvPr id="552" name="图片 5" descr="PPT图标蓝色"/>
            <p:cNvPicPr/>
            <p:nvPr/>
          </p:nvPicPr>
          <p:blipFill>
            <a:blip r:embed="rId8"/>
            <a:srcRect l="14815" t="0" r="0" b="0"/>
            <a:stretch/>
          </p:blipFill>
          <p:spPr>
            <a:xfrm>
              <a:off x="406440" y="182520"/>
              <a:ext cx="41292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76"/>
            <p:cNvSpPr/>
            <p:nvPr/>
          </p:nvSpPr>
          <p:spPr>
            <a:xfrm>
              <a:off x="406440" y="190800"/>
              <a:ext cx="295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识字加油站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1" descr=""/>
          <p:cNvPicPr/>
          <p:nvPr/>
        </p:nvPicPr>
        <p:blipFill>
          <a:blip r:embed="rId1"/>
          <a:srcRect l="0" t="0" r="46087" b="0"/>
          <a:stretch/>
        </p:blipFill>
        <p:spPr>
          <a:xfrm>
            <a:off x="-49320" y="-19080"/>
            <a:ext cx="6613560" cy="689616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3"/>
          <p:cNvSpPr/>
          <p:nvPr/>
        </p:nvSpPr>
        <p:spPr>
          <a:xfrm>
            <a:off x="1309680" y="880920"/>
            <a:ext cx="5254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查字典（拼音查字法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697200" y="2185920"/>
          <a:ext cx="8259840" cy="3768840"/>
        </p:xfrm>
        <a:graphic>
          <a:graphicData uri="http://schemas.openxmlformats.org/drawingml/2006/table">
            <a:tbl>
              <a:tblPr/>
              <a:tblGrid>
                <a:gridCol w="1376280"/>
                <a:gridCol w="1376280"/>
                <a:gridCol w="1378080"/>
                <a:gridCol w="1378080"/>
                <a:gridCol w="1374840"/>
                <a:gridCol w="1376280"/>
              </a:tblGrid>
              <a:tr h="71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序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节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序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节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典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佳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基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盲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础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唐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阁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7" name="文本框 4"/>
          <p:cNvSpPr/>
          <p:nvPr/>
        </p:nvSpPr>
        <p:spPr>
          <a:xfrm>
            <a:off x="5465880" y="28796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D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文本框 5"/>
          <p:cNvSpPr/>
          <p:nvPr/>
        </p:nvSpPr>
        <p:spPr>
          <a:xfrm>
            <a:off x="6499440" y="2879640"/>
            <a:ext cx="12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diǎn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文本框 6"/>
          <p:cNvSpPr/>
          <p:nvPr/>
        </p:nvSpPr>
        <p:spPr>
          <a:xfrm>
            <a:off x="5576040" y="3648240"/>
            <a:ext cx="33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文本框 7"/>
          <p:cNvSpPr/>
          <p:nvPr/>
        </p:nvSpPr>
        <p:spPr>
          <a:xfrm>
            <a:off x="5488560" y="441648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C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文本框 9"/>
          <p:cNvSpPr/>
          <p:nvPr/>
        </p:nvSpPr>
        <p:spPr>
          <a:xfrm>
            <a:off x="6911640" y="3645000"/>
            <a:ext cx="4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ī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文本框 10"/>
          <p:cNvSpPr/>
          <p:nvPr/>
        </p:nvSpPr>
        <p:spPr>
          <a:xfrm>
            <a:off x="6604560" y="4454640"/>
            <a:ext cx="10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chǔ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文本框 12"/>
          <p:cNvSpPr/>
          <p:nvPr/>
        </p:nvSpPr>
        <p:spPr>
          <a:xfrm>
            <a:off x="5462640" y="5222880"/>
            <a:ext cx="5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文本框 13"/>
          <p:cNvSpPr/>
          <p:nvPr/>
        </p:nvSpPr>
        <p:spPr>
          <a:xfrm>
            <a:off x="9620640" y="4454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T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文本框 14"/>
          <p:cNvSpPr/>
          <p:nvPr/>
        </p:nvSpPr>
        <p:spPr>
          <a:xfrm>
            <a:off x="9525600" y="3686040"/>
            <a:ext cx="65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M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文本框 15"/>
          <p:cNvSpPr/>
          <p:nvPr/>
        </p:nvSpPr>
        <p:spPr>
          <a:xfrm>
            <a:off x="9684720" y="2879640"/>
            <a:ext cx="33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文本框 16"/>
          <p:cNvSpPr/>
          <p:nvPr/>
        </p:nvSpPr>
        <p:spPr>
          <a:xfrm>
            <a:off x="6755760" y="5222880"/>
            <a:ext cx="78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gé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文本框 17"/>
          <p:cNvSpPr/>
          <p:nvPr/>
        </p:nvSpPr>
        <p:spPr>
          <a:xfrm>
            <a:off x="10903680" y="2876400"/>
            <a:ext cx="78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i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文本框 18"/>
          <p:cNvSpPr/>
          <p:nvPr/>
        </p:nvSpPr>
        <p:spPr>
          <a:xfrm>
            <a:off x="10480320" y="368604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má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文本框 19"/>
          <p:cNvSpPr/>
          <p:nvPr/>
        </p:nvSpPr>
        <p:spPr>
          <a:xfrm>
            <a:off x="10636920" y="4454640"/>
            <a:ext cx="13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t</a:t>
            </a: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á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1" descr=""/>
          <p:cNvPicPr/>
          <p:nvPr/>
        </p:nvPicPr>
        <p:blipFill>
          <a:blip r:embed="rId1"/>
          <a:srcRect l="0" t="0" r="46087" b="0"/>
          <a:stretch/>
        </p:blipFill>
        <p:spPr>
          <a:xfrm>
            <a:off x="-49320" y="-19080"/>
            <a:ext cx="6613560" cy="6896160"/>
          </a:xfrm>
          <a:prstGeom prst="rect">
            <a:avLst/>
          </a:prstGeom>
          <a:ln w="0">
            <a:noFill/>
          </a:ln>
        </p:spPr>
      </p:pic>
      <p:sp>
        <p:nvSpPr>
          <p:cNvPr id="572" name="文本框 3"/>
          <p:cNvSpPr/>
          <p:nvPr/>
        </p:nvSpPr>
        <p:spPr>
          <a:xfrm>
            <a:off x="1309680" y="880920"/>
            <a:ext cx="5254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查字典（部首查字法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3697200" y="2185920"/>
          <a:ext cx="8259840" cy="4359240"/>
        </p:xfrm>
        <a:graphic>
          <a:graphicData uri="http://schemas.openxmlformats.org/drawingml/2006/table">
            <a:tbl>
              <a:tblPr/>
              <a:tblGrid>
                <a:gridCol w="841320"/>
                <a:gridCol w="1206720"/>
                <a:gridCol w="1930320"/>
                <a:gridCol w="930240"/>
                <a:gridCol w="1285920"/>
                <a:gridCol w="206532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部首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除部首外几画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部首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除部首外几画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典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佳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基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盲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础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唐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阁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4" name="文本框 4"/>
          <p:cNvSpPr/>
          <p:nvPr/>
        </p:nvSpPr>
        <p:spPr>
          <a:xfrm>
            <a:off x="490212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八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490212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490212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石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文本框 8"/>
          <p:cNvSpPr/>
          <p:nvPr/>
        </p:nvSpPr>
        <p:spPr>
          <a:xfrm>
            <a:off x="646920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6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文本框 10"/>
          <p:cNvSpPr/>
          <p:nvPr/>
        </p:nvSpPr>
        <p:spPr>
          <a:xfrm>
            <a:off x="646920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5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文本框 11"/>
          <p:cNvSpPr/>
          <p:nvPr/>
        </p:nvSpPr>
        <p:spPr>
          <a:xfrm>
            <a:off x="646920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8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文本框 12"/>
          <p:cNvSpPr/>
          <p:nvPr/>
        </p:nvSpPr>
        <p:spPr>
          <a:xfrm>
            <a:off x="4902120" y="5775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门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文本框 13"/>
          <p:cNvSpPr/>
          <p:nvPr/>
        </p:nvSpPr>
        <p:spPr>
          <a:xfrm>
            <a:off x="905328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亻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文本框 14"/>
          <p:cNvSpPr/>
          <p:nvPr/>
        </p:nvSpPr>
        <p:spPr>
          <a:xfrm>
            <a:off x="905328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目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文本框 15"/>
          <p:cNvSpPr/>
          <p:nvPr/>
        </p:nvSpPr>
        <p:spPr>
          <a:xfrm>
            <a:off x="905328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广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文本框 16"/>
          <p:cNvSpPr/>
          <p:nvPr/>
        </p:nvSpPr>
        <p:spPr>
          <a:xfrm>
            <a:off x="6469200" y="5775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6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文本框 17"/>
          <p:cNvSpPr/>
          <p:nvPr/>
        </p:nvSpPr>
        <p:spPr>
          <a:xfrm>
            <a:off x="1065384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6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文本框 18"/>
          <p:cNvSpPr/>
          <p:nvPr/>
        </p:nvSpPr>
        <p:spPr>
          <a:xfrm>
            <a:off x="1065384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3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文本框 19"/>
          <p:cNvSpPr/>
          <p:nvPr/>
        </p:nvSpPr>
        <p:spPr>
          <a:xfrm>
            <a:off x="1065384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7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文本框 3"/>
          <p:cNvSpPr/>
          <p:nvPr/>
        </p:nvSpPr>
        <p:spPr>
          <a:xfrm>
            <a:off x="544680" y="433224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0243f"/>
                </a:solidFill>
                <a:uFillTx/>
                <a:latin typeface="仿宋_GB2312"/>
                <a:ea typeface="仿宋_GB2312"/>
              </a:rPr>
              <a:t>部首查字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文本框 4"/>
          <p:cNvSpPr/>
          <p:nvPr/>
        </p:nvSpPr>
        <p:spPr>
          <a:xfrm>
            <a:off x="544680" y="141912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0243f"/>
                </a:solidFill>
                <a:uFillTx/>
                <a:latin typeface="仿宋_GB2312"/>
                <a:ea typeface="仿宋_GB2312"/>
              </a:rPr>
              <a:t>拼音查字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左大括号 5"/>
          <p:cNvSpPr/>
          <p:nvPr/>
        </p:nvSpPr>
        <p:spPr>
          <a:xfrm>
            <a:off x="3530520" y="787320"/>
            <a:ext cx="222480" cy="1968480"/>
          </a:xfrm>
          <a:custGeom>
            <a:avLst/>
            <a:gdLst>
              <a:gd name="textAreaLeft" fmla="*/ 142200 w 222480"/>
              <a:gd name="textAreaRight" fmla="*/ 222840 w 222480"/>
              <a:gd name="textAreaTop" fmla="*/ 56160 h 1968480"/>
              <a:gd name="textAreaBottom" fmla="*/ 1912320 h 196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5"/>
                  <a:pt x="10800" y="1969"/>
                </a:cubicBezTo>
                <a:lnTo>
                  <a:pt x="10800" y="8831"/>
                </a:lnTo>
                <a:cubicBezTo>
                  <a:pt x="10800" y="9816"/>
                  <a:pt x="5400" y="10800"/>
                  <a:pt x="0" y="10800"/>
                </a:cubicBezTo>
                <a:cubicBezTo>
                  <a:pt x="5400" y="10800"/>
                  <a:pt x="10800" y="11785"/>
                  <a:pt x="10800" y="12769"/>
                </a:cubicBezTo>
                <a:lnTo>
                  <a:pt x="10800" y="19631"/>
                </a:lnTo>
                <a:cubicBezTo>
                  <a:pt x="10800" y="206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左大括号 6"/>
          <p:cNvSpPr/>
          <p:nvPr/>
        </p:nvSpPr>
        <p:spPr>
          <a:xfrm>
            <a:off x="3530520" y="3700440"/>
            <a:ext cx="222480" cy="1970280"/>
          </a:xfrm>
          <a:custGeom>
            <a:avLst/>
            <a:gdLst>
              <a:gd name="textAreaLeft" fmla="*/ 142200 w 222480"/>
              <a:gd name="textAreaRight" fmla="*/ 222840 w 222480"/>
              <a:gd name="textAreaTop" fmla="*/ 56160 h 1970280"/>
              <a:gd name="textAreaBottom" fmla="*/ 1914120 h 19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4"/>
                  <a:pt x="10800" y="1968"/>
                </a:cubicBezTo>
                <a:lnTo>
                  <a:pt x="10800" y="8832"/>
                </a:lnTo>
                <a:cubicBezTo>
                  <a:pt x="10800" y="9816"/>
                  <a:pt x="5400" y="10800"/>
                  <a:pt x="0" y="10800"/>
                </a:cubicBezTo>
                <a:cubicBezTo>
                  <a:pt x="5400" y="10800"/>
                  <a:pt x="10800" y="11784"/>
                  <a:pt x="10800" y="12768"/>
                </a:cubicBezTo>
                <a:lnTo>
                  <a:pt x="10800" y="19632"/>
                </a:lnTo>
                <a:cubicBezTo>
                  <a:pt x="10800" y="206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文本框 7"/>
          <p:cNvSpPr/>
          <p:nvPr/>
        </p:nvSpPr>
        <p:spPr>
          <a:xfrm>
            <a:off x="3905280" y="54288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会读不会写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文本框 8"/>
          <p:cNvSpPr/>
          <p:nvPr/>
        </p:nvSpPr>
        <p:spPr>
          <a:xfrm>
            <a:off x="3905280" y="141912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认识的字查词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文本框 9"/>
          <p:cNvSpPr/>
          <p:nvPr/>
        </p:nvSpPr>
        <p:spPr>
          <a:xfrm>
            <a:off x="3905280" y="230040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认识的字释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文本框 10"/>
          <p:cNvSpPr/>
          <p:nvPr/>
        </p:nvSpPr>
        <p:spPr>
          <a:xfrm>
            <a:off x="3905280" y="344484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文本框 11"/>
          <p:cNvSpPr/>
          <p:nvPr/>
        </p:nvSpPr>
        <p:spPr>
          <a:xfrm>
            <a:off x="3905280" y="433224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组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文本框 12"/>
          <p:cNvSpPr/>
          <p:nvPr/>
        </p:nvSpPr>
        <p:spPr>
          <a:xfrm>
            <a:off x="3905280" y="522432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词语释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36"/>
          <p:cNvSpPr/>
          <p:nvPr/>
        </p:nvSpPr>
        <p:spPr>
          <a:xfrm>
            <a:off x="552600" y="1957320"/>
            <a:ext cx="11349000" cy="4643640"/>
          </a:xfrm>
          <a:prstGeom prst="rect">
            <a:avLst/>
          </a:prstGeom>
          <a:solidFill>
            <a:srgbClr val="80808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文本框 12"/>
          <p:cNvSpPr/>
          <p:nvPr/>
        </p:nvSpPr>
        <p:spPr>
          <a:xfrm>
            <a:off x="431640" y="1054080"/>
            <a:ext cx="1132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读词语，根据加点字的意思读准字音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文本框 1"/>
          <p:cNvSpPr/>
          <p:nvPr/>
        </p:nvSpPr>
        <p:spPr>
          <a:xfrm>
            <a:off x="919080" y="21258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期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文本框 2"/>
          <p:cNvSpPr/>
          <p:nvPr/>
        </p:nvSpPr>
        <p:spPr>
          <a:xfrm>
            <a:off x="3706920" y="215568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日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文本框 3"/>
          <p:cNvSpPr/>
          <p:nvPr/>
        </p:nvSpPr>
        <p:spPr>
          <a:xfrm>
            <a:off x="6489720" y="21258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扮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文本框 4"/>
          <p:cNvSpPr/>
          <p:nvPr/>
        </p:nvSpPr>
        <p:spPr>
          <a:xfrm>
            <a:off x="9275760" y="212580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装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文本框 5"/>
          <p:cNvSpPr/>
          <p:nvPr/>
        </p:nvSpPr>
        <p:spPr>
          <a:xfrm>
            <a:off x="919080" y="32148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几乎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文本框 6"/>
          <p:cNvSpPr/>
          <p:nvPr/>
        </p:nvSpPr>
        <p:spPr>
          <a:xfrm>
            <a:off x="3706920" y="324468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几百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文本框 7"/>
          <p:cNvSpPr/>
          <p:nvPr/>
        </p:nvSpPr>
        <p:spPr>
          <a:xfrm>
            <a:off x="6489720" y="32148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茶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文本框 8"/>
          <p:cNvSpPr/>
          <p:nvPr/>
        </p:nvSpPr>
        <p:spPr>
          <a:xfrm>
            <a:off x="8783640" y="3214800"/>
            <a:ext cx="295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窗明几净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文本框 9"/>
          <p:cNvSpPr/>
          <p:nvPr/>
        </p:nvSpPr>
        <p:spPr>
          <a:xfrm>
            <a:off x="919080" y="43038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中毒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文本框 10"/>
          <p:cNvSpPr/>
          <p:nvPr/>
        </p:nvSpPr>
        <p:spPr>
          <a:xfrm>
            <a:off x="3706920" y="433404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中奖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文本框 11"/>
          <p:cNvSpPr/>
          <p:nvPr/>
        </p:nvSpPr>
        <p:spPr>
          <a:xfrm>
            <a:off x="6489720" y="43038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中间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文本框 13"/>
          <p:cNvSpPr/>
          <p:nvPr/>
        </p:nvSpPr>
        <p:spPr>
          <a:xfrm>
            <a:off x="9275760" y="430380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猜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文本框 14"/>
          <p:cNvSpPr/>
          <p:nvPr/>
        </p:nvSpPr>
        <p:spPr>
          <a:xfrm>
            <a:off x="919080" y="53784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处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文本框 15"/>
          <p:cNvSpPr/>
          <p:nvPr/>
        </p:nvSpPr>
        <p:spPr>
          <a:xfrm>
            <a:off x="3706920" y="540864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处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文本框 16"/>
          <p:cNvSpPr/>
          <p:nvPr/>
        </p:nvSpPr>
        <p:spPr>
          <a:xfrm>
            <a:off x="6489720" y="53784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到处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文本框 17"/>
          <p:cNvSpPr/>
          <p:nvPr/>
        </p:nvSpPr>
        <p:spPr>
          <a:xfrm>
            <a:off x="9275760" y="537840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处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6" name="图片 38" descr=""/>
          <p:cNvPicPr/>
          <p:nvPr/>
        </p:nvPicPr>
        <p:blipFill>
          <a:blip r:embed="rId1"/>
          <a:srcRect l="3517" t="26107" r="56301" b="33796"/>
          <a:stretch/>
        </p:blipFill>
        <p:spPr>
          <a:xfrm>
            <a:off x="1373040" y="2940120"/>
            <a:ext cx="303480" cy="27468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18" descr=""/>
          <p:cNvPicPr/>
          <p:nvPr/>
        </p:nvPicPr>
        <p:blipFill>
          <a:blip r:embed="rId2"/>
          <a:srcRect l="3517" t="26107" r="56301" b="33796"/>
          <a:stretch/>
        </p:blipFill>
        <p:spPr>
          <a:xfrm>
            <a:off x="9802800" y="618804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9" descr=""/>
          <p:cNvPicPr/>
          <p:nvPr/>
        </p:nvPicPr>
        <p:blipFill>
          <a:blip r:embed="rId3"/>
          <a:srcRect l="3517" t="26107" r="56301" b="33796"/>
          <a:stretch/>
        </p:blipFill>
        <p:spPr>
          <a:xfrm>
            <a:off x="7628040" y="618804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20" descr=""/>
          <p:cNvPicPr/>
          <p:nvPr/>
        </p:nvPicPr>
        <p:blipFill>
          <a:blip r:embed="rId4"/>
          <a:srcRect l="3517" t="26107" r="56301" b="33796"/>
          <a:stretch/>
        </p:blipFill>
        <p:spPr>
          <a:xfrm>
            <a:off x="4199040" y="618804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21" descr=""/>
          <p:cNvPicPr/>
          <p:nvPr/>
        </p:nvPicPr>
        <p:blipFill>
          <a:blip r:embed="rId5"/>
          <a:srcRect l="3517" t="26107" r="56301" b="33796"/>
          <a:stretch/>
        </p:blipFill>
        <p:spPr>
          <a:xfrm>
            <a:off x="1373040" y="6188040"/>
            <a:ext cx="303480" cy="27612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22" descr=""/>
          <p:cNvPicPr/>
          <p:nvPr/>
        </p:nvPicPr>
        <p:blipFill>
          <a:blip r:embed="rId6"/>
          <a:srcRect l="3517" t="26107" r="56301" b="33796"/>
          <a:stretch/>
        </p:blipFill>
        <p:spPr>
          <a:xfrm>
            <a:off x="10485360" y="510228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23" descr=""/>
          <p:cNvPicPr/>
          <p:nvPr/>
        </p:nvPicPr>
        <p:blipFill>
          <a:blip r:embed="rId7"/>
          <a:srcRect l="3517" t="26107" r="56301" b="33796"/>
          <a:stretch/>
        </p:blipFill>
        <p:spPr>
          <a:xfrm>
            <a:off x="6993000" y="510228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24" descr=""/>
          <p:cNvPicPr/>
          <p:nvPr/>
        </p:nvPicPr>
        <p:blipFill>
          <a:blip r:embed="rId8"/>
          <a:srcRect l="3517" t="26107" r="56301" b="33796"/>
          <a:stretch/>
        </p:blipFill>
        <p:spPr>
          <a:xfrm>
            <a:off x="4199040" y="510228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25" descr=""/>
          <p:cNvPicPr/>
          <p:nvPr/>
        </p:nvPicPr>
        <p:blipFill>
          <a:blip r:embed="rId9"/>
          <a:srcRect l="3517" t="26107" r="56301" b="33796"/>
          <a:stretch/>
        </p:blipFill>
        <p:spPr>
          <a:xfrm>
            <a:off x="1373040" y="5102280"/>
            <a:ext cx="303480" cy="27612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26" descr=""/>
          <p:cNvPicPr/>
          <p:nvPr/>
        </p:nvPicPr>
        <p:blipFill>
          <a:blip r:embed="rId10"/>
          <a:srcRect l="3517" t="26107" r="56301" b="33796"/>
          <a:stretch/>
        </p:blipFill>
        <p:spPr>
          <a:xfrm>
            <a:off x="10485360" y="395604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27" descr=""/>
          <p:cNvPicPr/>
          <p:nvPr/>
        </p:nvPicPr>
        <p:blipFill>
          <a:blip r:embed="rId11"/>
          <a:srcRect l="3517" t="26107" r="56301" b="33796"/>
          <a:stretch/>
        </p:blipFill>
        <p:spPr>
          <a:xfrm>
            <a:off x="7628040" y="393552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28" descr=""/>
          <p:cNvPicPr/>
          <p:nvPr/>
        </p:nvPicPr>
        <p:blipFill>
          <a:blip r:embed="rId12"/>
          <a:srcRect l="3517" t="26107" r="56301" b="33796"/>
          <a:stretch/>
        </p:blipFill>
        <p:spPr>
          <a:xfrm>
            <a:off x="4199040" y="393552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29" descr=""/>
          <p:cNvPicPr/>
          <p:nvPr/>
        </p:nvPicPr>
        <p:blipFill>
          <a:blip r:embed="rId13"/>
          <a:srcRect l="3517" t="26107" r="56301" b="33796"/>
          <a:stretch/>
        </p:blipFill>
        <p:spPr>
          <a:xfrm>
            <a:off x="1373040" y="3935520"/>
            <a:ext cx="303480" cy="27468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30" descr=""/>
          <p:cNvPicPr/>
          <p:nvPr/>
        </p:nvPicPr>
        <p:blipFill>
          <a:blip r:embed="rId14"/>
          <a:srcRect l="3517" t="26107" r="56301" b="33796"/>
          <a:stretch/>
        </p:blipFill>
        <p:spPr>
          <a:xfrm>
            <a:off x="9802800" y="2940120"/>
            <a:ext cx="304920" cy="27468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1" descr=""/>
          <p:cNvPicPr/>
          <p:nvPr/>
        </p:nvPicPr>
        <p:blipFill>
          <a:blip r:embed="rId15"/>
          <a:srcRect l="3517" t="26107" r="56301" b="33796"/>
          <a:stretch/>
        </p:blipFill>
        <p:spPr>
          <a:xfrm>
            <a:off x="6993000" y="294012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2" descr=""/>
          <p:cNvPicPr/>
          <p:nvPr/>
        </p:nvPicPr>
        <p:blipFill>
          <a:blip r:embed="rId16"/>
          <a:srcRect l="3517" t="26107" r="56301" b="33796"/>
          <a:stretch/>
        </p:blipFill>
        <p:spPr>
          <a:xfrm>
            <a:off x="4199040" y="2940120"/>
            <a:ext cx="303120" cy="274680"/>
          </a:xfrm>
          <a:prstGeom prst="rect">
            <a:avLst/>
          </a:prstGeom>
          <a:ln w="0">
            <a:noFill/>
          </a:ln>
        </p:spPr>
      </p:pic>
      <p:grpSp>
        <p:nvGrpSpPr>
          <p:cNvPr id="632" name="组合 33"/>
          <p:cNvGrpSpPr/>
          <p:nvPr/>
        </p:nvGrpSpPr>
        <p:grpSpPr>
          <a:xfrm>
            <a:off x="406440" y="182520"/>
            <a:ext cx="4095720" cy="714240"/>
            <a:chOff x="406440" y="182520"/>
            <a:chExt cx="4095720" cy="714240"/>
          </a:xfrm>
        </p:grpSpPr>
        <p:pic>
          <p:nvPicPr>
            <p:cNvPr id="633" name="图片 34" descr="PPT图标蓝色"/>
            <p:cNvPicPr/>
            <p:nvPr/>
          </p:nvPicPr>
          <p:blipFill>
            <a:blip r:embed="rId17"/>
            <a:srcRect l="14815" t="0" r="0" b="0"/>
            <a:stretch/>
          </p:blipFill>
          <p:spPr>
            <a:xfrm>
              <a:off x="406440" y="182520"/>
              <a:ext cx="40957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Box 76"/>
            <p:cNvSpPr/>
            <p:nvPr/>
          </p:nvSpPr>
          <p:spPr>
            <a:xfrm>
              <a:off x="406440" y="190800"/>
              <a:ext cx="293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词句段运用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文本框 3"/>
          <p:cNvSpPr/>
          <p:nvPr/>
        </p:nvSpPr>
        <p:spPr>
          <a:xfrm>
            <a:off x="8240760" y="219240"/>
            <a:ext cx="998640" cy="25628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多音字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左大括号 5"/>
          <p:cNvSpPr/>
          <p:nvPr/>
        </p:nvSpPr>
        <p:spPr>
          <a:xfrm>
            <a:off x="1363680" y="863640"/>
            <a:ext cx="336600" cy="1668600"/>
          </a:xfrm>
          <a:custGeom>
            <a:avLst/>
            <a:gdLst>
              <a:gd name="textAreaLeft" fmla="*/ 215280 w 336600"/>
              <a:gd name="textAreaRight" fmla="*/ 336960 w 336600"/>
              <a:gd name="textAreaTop" fmla="*/ 84960 h 1668600"/>
              <a:gd name="textAreaBottom" fmla="*/ 1583640 h 16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60"/>
                  <a:pt x="10800" y="3519"/>
                </a:cubicBezTo>
                <a:lnTo>
                  <a:pt x="10800" y="7281"/>
                </a:lnTo>
                <a:cubicBezTo>
                  <a:pt x="10800" y="9041"/>
                  <a:pt x="5400" y="10800"/>
                  <a:pt x="0" y="10800"/>
                </a:cubicBezTo>
                <a:cubicBezTo>
                  <a:pt x="5400" y="10800"/>
                  <a:pt x="10800" y="12560"/>
                  <a:pt x="10800" y="14319"/>
                </a:cubicBezTo>
                <a:lnTo>
                  <a:pt x="10800" y="18081"/>
                </a:lnTo>
                <a:cubicBezTo>
                  <a:pt x="10800" y="1984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文本框 7"/>
          <p:cNvSpPr/>
          <p:nvPr/>
        </p:nvSpPr>
        <p:spPr>
          <a:xfrm>
            <a:off x="380880" y="4156200"/>
            <a:ext cx="13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1473120" y="6541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文本框 2"/>
          <p:cNvSpPr/>
          <p:nvPr/>
        </p:nvSpPr>
        <p:spPr>
          <a:xfrm>
            <a:off x="1473120" y="21589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文本框 4"/>
          <p:cNvSpPr/>
          <p:nvPr/>
        </p:nvSpPr>
        <p:spPr>
          <a:xfrm>
            <a:off x="2900520" y="5922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扮 假装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文本框 6"/>
          <p:cNvSpPr/>
          <p:nvPr/>
        </p:nvSpPr>
        <p:spPr>
          <a:xfrm>
            <a:off x="2900520" y="20970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期 假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左大括号 8"/>
          <p:cNvSpPr/>
          <p:nvPr/>
        </p:nvSpPr>
        <p:spPr>
          <a:xfrm>
            <a:off x="1363680" y="3782880"/>
            <a:ext cx="336600" cy="1668600"/>
          </a:xfrm>
          <a:custGeom>
            <a:avLst/>
            <a:gdLst>
              <a:gd name="textAreaLeft" fmla="*/ 215280 w 336600"/>
              <a:gd name="textAreaRight" fmla="*/ 336960 w 336600"/>
              <a:gd name="textAreaTop" fmla="*/ 84960 h 1668600"/>
              <a:gd name="textAreaBottom" fmla="*/ 1583640 h 16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60"/>
                  <a:pt x="10800" y="3519"/>
                </a:cubicBezTo>
                <a:lnTo>
                  <a:pt x="10800" y="7281"/>
                </a:lnTo>
                <a:cubicBezTo>
                  <a:pt x="10800" y="9041"/>
                  <a:pt x="5400" y="10800"/>
                  <a:pt x="0" y="10800"/>
                </a:cubicBezTo>
                <a:cubicBezTo>
                  <a:pt x="5400" y="10800"/>
                  <a:pt x="10800" y="12560"/>
                  <a:pt x="10800" y="14319"/>
                </a:cubicBezTo>
                <a:lnTo>
                  <a:pt x="10800" y="18081"/>
                </a:lnTo>
                <a:cubicBezTo>
                  <a:pt x="10800" y="1984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文本框 9"/>
          <p:cNvSpPr/>
          <p:nvPr/>
        </p:nvSpPr>
        <p:spPr>
          <a:xfrm>
            <a:off x="1473120" y="35719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文本框 10"/>
          <p:cNvSpPr/>
          <p:nvPr/>
        </p:nvSpPr>
        <p:spPr>
          <a:xfrm>
            <a:off x="1473120" y="50785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文本框 11"/>
          <p:cNvSpPr/>
          <p:nvPr/>
        </p:nvSpPr>
        <p:spPr>
          <a:xfrm>
            <a:off x="2900520" y="3511440"/>
            <a:ext cx="49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乎 茶几 窗明几净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文本框 12"/>
          <p:cNvSpPr/>
          <p:nvPr/>
        </p:nvSpPr>
        <p:spPr>
          <a:xfrm>
            <a:off x="2900520" y="50166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百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文本框 13"/>
          <p:cNvSpPr/>
          <p:nvPr/>
        </p:nvSpPr>
        <p:spPr>
          <a:xfrm>
            <a:off x="380880" y="1236600"/>
            <a:ext cx="13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dc:language>en-US</dc:language>
  <cp:lastModifiedBy>万润仪器贸易公司</cp:lastModifiedBy>
  <dcterms:modified xsi:type="dcterms:W3CDTF">2020-08-19T03:30:30Z</dcterms:modified>
  <cp:revision>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